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649-C80C-4012-BC83-2236F4C3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838-B396-48EF-9AE1-DA05CEEC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12B-C4F9-4825-AADD-4D593BAA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D74-E574-43B5-A76A-B645D982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B76E-35BC-44EE-81D5-ACE4CD17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BB6-4213-436F-BE10-2F8A8DA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198C-D77E-4222-B070-76524645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EEA-A8B9-4D2E-922F-3B0893D6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2D4-C0F3-4D70-AD05-6C49D5F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55B8-D1BB-4708-AF1A-9A6DDD5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75B-3D79-4B69-8452-BBCACE9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40C-8C3C-480E-84DA-B07FA95B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89F7-16DB-4B9A-A188-D83D8CBF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6CDE-373E-4E01-A8AA-E48504C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3F9-1816-4D4B-BB36-54291838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F6C-1C00-4810-BBD4-BCBBCEC4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D51B-C923-43BF-B260-30603B0B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1AF-17AA-423A-B49A-FE84725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E0F-8B7B-4923-B780-0E84C63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066-12E3-418F-87CB-68FBAA2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FAF-5631-4612-9DA7-9E5A508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721-19A2-4A8C-837C-40495C8F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4DF-2831-4217-8F63-ABA34FC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732-816F-444C-AE64-2E75D6FB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962-F02A-4FD3-BC3C-F7CFF920ABBF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2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5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8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51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1DC-15CB-4772-ABC7-4F553536A87A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uola.fvg.it/" TargetMode="External"/><Relationship Id="rId2" Type="http://schemas.openxmlformats.org/officeDocument/2006/relationships/hyperlink" Target="http://www.scuola.fvg.it/" TargetMode="External"/><Relationship Id="rId3" Type="http://schemas.openxmlformats.org/officeDocument/2006/relationships/hyperlink" Target="http://www.scuola.fvg.it/" TargetMode="External"/><Relationship Id="rId4" Type="http://schemas.openxmlformats.org/officeDocument/2006/relationships/hyperlink" Target="http://www.scuola.fvg.it/" TargetMode="External"/><Relationship Id="rId5" Type="http://schemas.openxmlformats.org/officeDocument/2006/relationships/hyperlink" Target="http://www.eun.org/" TargetMode="External"/><Relationship Id="rId6" Type="http://schemas.openxmlformats.org/officeDocument/2006/relationships/hyperlink" Target="http://www.eun.org/" TargetMode="External"/><Relationship Id="rId7" Type="http://schemas.openxmlformats.org/officeDocument/2006/relationships/hyperlink" Target="http://www.eun.org/" TargetMode="External"/><Relationship Id="rId8" Type="http://schemas.openxmlformats.org/officeDocument/2006/relationships/hyperlink" Target="http://www.eun.org/" TargetMode="Externa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466560"/>
            <a:ext cx="66294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66"/>
                </a:solidFill>
                <a:latin typeface="Lucida Sans Unicode"/>
                <a:ea typeface="Lucida Sans Unicode"/>
              </a:rPr>
              <a:t>Miur</a:t>
            </a:r>
            <a:br>
              <a:rPr sz="1400"/>
            </a:br>
            <a:r>
              <a:rPr b="1" i="1" lang="it-IT" sz="1200" spc="-1" strike="noStrike">
                <a:solidFill>
                  <a:srgbClr val="000066"/>
                </a:solidFill>
                <a:latin typeface="Lucida Sans Unicode"/>
                <a:ea typeface="Lucida Sans Unicode"/>
              </a:rPr>
              <a:t>U</a:t>
            </a:r>
            <a:r>
              <a:rPr b="1" i="1" lang="it-IT" sz="1200" spc="-1" strike="noStrike">
                <a:solidFill>
                  <a:srgbClr val="000066"/>
                </a:solidFill>
                <a:latin typeface="Bookman Old Style"/>
                <a:ea typeface="Times New Roman"/>
              </a:rPr>
              <a:t>ffico Scolastico Regionale - Direzione Generale - Friuli Venezia Giulia </a:t>
            </a:r>
            <a:br>
              <a:rPr sz="1200"/>
            </a:br>
            <a:br>
              <a:rPr sz="1200"/>
            </a:br>
            <a:r>
              <a:rPr b="1" i="1" lang="it-IT" sz="1800" spc="-1" strike="noStrike">
                <a:solidFill>
                  <a:srgbClr val="333399"/>
                </a:solidFill>
                <a:latin typeface="Arial"/>
                <a:ea typeface="Arial"/>
              </a:rPr>
              <a:t>Progetto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667640" cy="40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19520"/>
            <a:ext cx="784872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Seminari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Proposte operative   per l’avvio di un sistema regional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di valutazion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Georgia"/>
                <a:ea typeface="Times New Roman"/>
              </a:rPr>
              <a:t>3 giugno 2003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99"/>
                </a:solidFill>
                <a:latin typeface="Georgia"/>
                <a:ea typeface="Times New Roman"/>
              </a:rPr>
              <a:t>Dott. Daniela Cellie  -</a:t>
            </a:r>
            <a:r>
              <a:rPr b="1" i="1" lang="it-IT" sz="1400" spc="-1" strike="noStrike">
                <a:solidFill>
                  <a:srgbClr val="000099"/>
                </a:solidFill>
                <a:latin typeface="Georgia"/>
                <a:ea typeface="Arial"/>
              </a:rPr>
              <a:t>  Dott Leda Zocchi</a:t>
            </a:r>
            <a:br>
              <a:rPr sz="1400"/>
            </a:br>
            <a:r>
              <a:rPr b="1" i="1" lang="it-IT" sz="1400" spc="-1" strike="noStrike">
                <a:solidFill>
                  <a:srgbClr val="3333cc"/>
                </a:solidFill>
                <a:latin typeface="Georgia"/>
                <a:ea typeface="Arial"/>
              </a:rPr>
              <a:t> 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81080" y="190512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RO.VA.RE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553080" y="1523880"/>
          <a:ext cx="12193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523880"/>
                    <a:ext cx="12193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5181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br>
              <a:rPr sz="2800"/>
            </a:b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sintesi del percorso effettuato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523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295280"/>
            <a:ext cx="1676160" cy="1270800"/>
          </a:xfrm>
          <a:prstGeom prst="rect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Costituzione gruppo regionale di valutazi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Stesura del progetto luglio/agosto 20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1371600"/>
            <a:ext cx="1752840" cy="1168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Consulenza tecnico-scientific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Bottani/Gori /Tessa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ottobre 2002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1676520"/>
            <a:ext cx="2210040" cy="631440"/>
          </a:xfrm>
          <a:prstGeom prst="rect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Revisione proget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novembre/dicembre 20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25146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2895480"/>
            <a:ext cx="281952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Seminario 16/17 gennaio 2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3526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66"/>
                </a:solidFill>
                <a:uFillTx/>
                <a:latin typeface="Times New Roman"/>
              </a:rPr>
              <a:t>Costituzione dei gruppi  provincial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3886200"/>
            <a:ext cx="2971800" cy="159516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Elaborazione prove interdisciplinari per gli alunn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Elaborazione questionari di valutazione del servizi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Elaborazione  strumenti di analisi POF e indicazioni per la stes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6019920"/>
            <a:ext cx="228600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Seminario 3 giugno 2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35053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66"/>
                </a:solidFill>
                <a:uFillTx/>
                <a:latin typeface="Times New Roman"/>
              </a:rPr>
              <a:t>Gruppo regionale di valutazi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4267080"/>
            <a:ext cx="2057400" cy="1280160"/>
          </a:xfrm>
          <a:prstGeom prst="rect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Focus grou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Analisi P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Documentazion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Elaborazione statistic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3962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2767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31240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1520" y="3352680"/>
            <a:ext cx="1218960" cy="52020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Rilevazione SW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038480"/>
            <a:ext cx="1828800" cy="12708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Collaborazione con Facoltà di Ingegneria Univ.  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Modelli di tabulazione dat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541008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Gruppi interprovincial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3809880"/>
            <a:ext cx="45720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548640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86728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617220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56386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638680" y="5334120"/>
            <a:ext cx="60984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3886200"/>
            <a:ext cx="0" cy="1371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791320" y="5257800"/>
            <a:ext cx="2133360" cy="9144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6095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ATTUZION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365760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276720" y="3276720"/>
            <a:ext cx="38088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1676520"/>
            <a:ext cx="45720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1905120"/>
            <a:ext cx="304560" cy="75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4382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53080" y="5638680"/>
            <a:ext cx="24386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594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ATTUIZION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80880"/>
            <a:ext cx="1828800" cy="5202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Seminario 28 giugno 20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9144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br>
              <a:rPr sz="2800"/>
            </a:b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sintesi proposte operative per </a:t>
            </a:r>
            <a:br>
              <a:rPr sz="2400"/>
            </a:b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a.s. 2003/2004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1676520"/>
            <a:ext cx="2666880" cy="4594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Valutazione  Alunn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roposta di Prove interdisciplinari p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Sc.elementare (3°cl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Sc.media (1°cl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Sc.superiore (1°cl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roposta di un modello di raccolta dei dati relativi agli alunn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143000"/>
            <a:ext cx="2514600" cy="4649040"/>
          </a:xfrm>
          <a:prstGeom prst="rect">
            <a:avLst/>
          </a:prstGeom>
          <a:solidFill>
            <a:srgbClr val="99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Valutazione serviz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resentazione esperienza SWG nella provincia di Tries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Rielaborazione di questionari già utilizzati nelle istituzioni scolasti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roposta di utilizzo di uno strumento comune  per la  rilevazi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Indicazioni metodologi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685800"/>
            <a:ext cx="2362320" cy="4517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66"/>
                </a:solidFill>
                <a:latin typeface="Times New Roman"/>
              </a:rPr>
              <a:t>Analisi  P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Analisi di 10 POF della regione FV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Proposta di un indice minimo (contenuti comuni) per i POF delle scuole del progetto PRO.VA.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Indicazioni metodologi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35812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la documentazione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80"/>
                </a:solidFill>
                <a:latin typeface="Eras Demi ITC"/>
                <a:ea typeface="Times New Roman"/>
              </a:rPr>
              <a:t>Il Gruppo regionale di valutazione ha predisposto la documentazione di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80"/>
                </a:solidFill>
                <a:latin typeface="Eras Demi ITC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    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incontri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seminari ( 28 giugno 2002, 16 e 17 gennaio 2003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bibliografi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sitografi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documentazione amministrativ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materiali elaborati dal gruppo regionale di valutazio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proposte delle singole scuol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Tahoma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       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proposte elaborate a livello provinciale ed interprovinciale</a:t>
            </a:r>
            <a:r>
              <a:rPr b="0" lang="it-IT" sz="2000" spc="-1" strike="noStrike">
                <a:solidFill>
                  <a:srgbClr val="800080"/>
                </a:solidFill>
                <a:latin typeface="Eras Demi ITC"/>
                <a:ea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80"/>
                </a:solidFill>
                <a:latin typeface="Eras Demi ITC"/>
                <a:ea typeface="Times New Roman"/>
              </a:rPr>
              <a:t>I materiali sono stati collocati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nel sito 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1"/>
              </a:rPr>
              <a:t>www.scuola.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2"/>
              </a:rPr>
              <a:t>fvg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4"/>
              </a:rPr>
              <a:t>it</a:t>
            </a:r>
            <a:r>
              <a:rPr b="0" lang="it-IT" sz="20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  alla voce "valutazione"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nel sito 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5"/>
              </a:rPr>
              <a:t>www.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6"/>
              </a:rPr>
              <a:t>eun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7"/>
              </a:rPr>
              <a:t>.</a:t>
            </a:r>
            <a:r>
              <a:rPr b="0" lang="it-IT" sz="2000" spc="-1" strike="noStrike" u="sng">
                <a:solidFill>
                  <a:srgbClr val="cc00cc"/>
                </a:solidFill>
                <a:uFillTx/>
                <a:latin typeface="Eras Demi ITC"/>
                <a:ea typeface="Times New Roman"/>
                <a:hlinkClick r:id="rId8"/>
              </a:rPr>
              <a:t>org</a:t>
            </a:r>
            <a:r>
              <a:rPr b="0" lang="it-IT" sz="20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  Community Provare, sito creato appositamente per lo scambio di materiali, osservazioni, proposte fra le scuole partecipanti al progetto Pro.Va.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00ff"/>
                </a:solidFill>
                <a:latin typeface="Eras Demi ITC"/>
                <a:ea typeface="Times New Roman"/>
              </a:rPr>
              <a:t>(l’accesso è consentito a chi non è registrato, utilizzando la user ID : ospite e la password : ospite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3962520"/>
            <a:ext cx="8610480" cy="2438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un patto per l’a.s.2003/2004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Gli Istituti aderenti al progetto si impegnano a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partecipare a tutti i percorsi previsti (valutazione alunni-servizio-POF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inserire nel proprio POF le azioni previste dal progetto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assicurare l’attuazione del progetto attraverso l’individuazione di referenti (1 docente per ciascun percorso + il dirigente scolastico) che attivino le necessarie forme di collaborazioni interne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attuare  percorsi formativi (anche in rete con altri Istituti coinvolti) sulle tematiche  valutative per la maggior diffusività possibile del progetto e contribuire con approfondimenti bibliografici e sitografici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Il Gruppo regionale di valutazione si impegna a: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garantire il necessario raccordo tra i gruppi di istituto, provinciali e interprovinciali </a:t>
            </a:r>
            <a:r>
              <a:rPr b="1" lang="it-IT" sz="1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fornire  supporto a livello informativo e organizzativ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fornire consulenza rispetto ai percorsi formativ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predisporre specifiche azioni formative per i referenti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curare la comunicazione e la documentazione del progett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Tahoma"/>
              </a:rPr>
              <a:t>L’USR FVG – Direzione Generale si impegna a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ahoma"/>
              </a:rPr>
              <a:t>sostenere l’attuazione del progetto con specifici fondi assegnati all’ITI Volta di Trieste assicurando ad ogni istituzione partecipante una quota determinata in base al numero di classi partecipant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914400"/>
            <a:ext cx="8534520" cy="2286000"/>
          </a:xfrm>
          <a:prstGeom prst="rect">
            <a:avLst/>
          </a:pr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200400"/>
            <a:ext cx="8534520" cy="167652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4876920"/>
            <a:ext cx="8534520" cy="114300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Progetto PRO.VA.RE: le azioni previste dal progetto per a.s. 2003/2004 per le SCUOLE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Valutazione alun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omministrazione delle prove interdisciplinari agli alunni di almeno 2 classi del proprio Istituto (3° elementari-1° media-1° superiore) nel novembre/dicembre 2003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Correzione incrociata e tabulazione dei risultati delle prov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Adozione del modello di raccolta dati a partire dall’inizio dell’anno scolastic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Valutazione serviz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omministrazione del questionario concordato a livello regionale  e applicazione delle linee metodologiche e tabulazione dei risult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Analisi POF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Stesura dei POF secondo l’indice concordato e con le modalità suggeri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ahoma"/>
              </a:rPr>
              <a:t>Valutazione di almeno 2 POF da parte di ogni istituzione scolastic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7524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8686800" cy="2286000"/>
          </a:xfrm>
          <a:prstGeom prst="rect">
            <a:avLst/>
          </a:pr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3581280"/>
            <a:ext cx="8686800" cy="1067040"/>
          </a:xfrm>
          <a:prstGeom prst="rect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4648320"/>
            <a:ext cx="8686800" cy="1447560"/>
          </a:xfrm>
          <a:prstGeom prst="rect">
            <a:avLst/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Progetto PRO.VA.RE: le azioni previste dal progetto per a.s. 2003/2004 per il GRUPPO REGIONALE DI VALUTAZIONE 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Raccolta di tutti i dati e materiali forniti dalle scuo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Organizzazione e lettura degli stessi in una prospettiva interpretativa unitaria a livello reg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Comunicazione dei risultati ottenuti a tutte le scuole coinvolte secondo contenuti e criteri che saranno preventivamente concordati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Pubblicazione dei prodotti finali sul portale della Direzione regional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Eventuale pubblicazione cartace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Approfondimenti bibliografici e sitografici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ahoma"/>
              </a:rPr>
              <a:t>Collaborazioni (a richiesta) per azioni di informazione e consulen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52280" y="1905120"/>
            <a:ext cx="8686800" cy="3352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  i presuppost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76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51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Valutazione  come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Valutazione  co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Times New Roman"/>
              </a:rPr>
              <a:t>Valutazione metodi/strumen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17114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123516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12351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676520"/>
            <a:ext cx="601992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905120"/>
            <a:ext cx="48769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processo per promuovere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</a:rPr>
              <a:t>l’ apprendimento organizzativ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it-IT" sz="1600" spc="-1" strike="noStrike">
                <a:solidFill>
                  <a:srgbClr val="000099"/>
                </a:solidFill>
                <a:latin typeface="Tahoma"/>
              </a:rPr>
              <a:t>il cambiamento/miglioramen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276720"/>
            <a:ext cx="624852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05320"/>
            <a:ext cx="38862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gli esiti e i processi messi in atto dalle istituzioni scolasti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952880"/>
            <a:ext cx="640080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029200"/>
            <a:ext cx="70102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Arial"/>
              </a:rPr>
              <a:t>superamento polarità tra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Arial"/>
              </a:rPr>
              <a:t>metodo quantitativo/metodo qualitativ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Arial"/>
              </a:rPr>
              <a:t>oggettività/soggettivit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Arial"/>
              </a:rPr>
              <a:t>ma rigorosità della procedu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933480"/>
            <a:ext cx="85802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valutazione  per…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49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             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        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  <a:ea typeface="Arial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143000"/>
            <a:ext cx="7467840" cy="15238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523880"/>
            <a:ext cx="5943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ahoma"/>
                <a:ea typeface="Arial"/>
              </a:rPr>
              <a:t>costruzione e  sviluppo di un sistema regionale di valutazion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666880"/>
            <a:ext cx="1904760" cy="161856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per rendere più efficace ed efficiente il        servizio scolastic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743200"/>
            <a:ext cx="762120" cy="9907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895480"/>
            <a:ext cx="3581280" cy="324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13500000"/>
          </a:gradFill>
          <a:ln w="158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ratterizzato d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unitarie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luridimensional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organicità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istematicità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ostenibilit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32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4 percorsi interconness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Il progetto si articola in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4 percorsi specifici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ma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fortemente interrelati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tra loro,  relativi ai diversi 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oggetti di valutazione</a:t>
            </a:r>
            <a:r>
              <a:rPr b="0" lang="it-IT" sz="2000" spc="-1" strike="noStrike">
                <a:solidFill>
                  <a:srgbClr val="000099"/>
                </a:solidFill>
                <a:latin typeface="Tahoma"/>
                <a:ea typeface="Arial"/>
              </a:rPr>
              <a:t> presi in considera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495680"/>
            <a:ext cx="3048120" cy="12956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429000"/>
            <a:ext cx="2361960" cy="9907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4572000"/>
            <a:ext cx="4191120" cy="10666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352680"/>
            <a:ext cx="2971800" cy="1067040"/>
          </a:xfrm>
          <a:prstGeom prst="ellipse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52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35812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P.O.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3505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alunn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5105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572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servizio scolast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5257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724280"/>
            <a:ext cx="4343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utazione insegnamento/apprendim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95480"/>
            <a:ext cx="8458200" cy="342900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191120"/>
            <a:ext cx="762120" cy="5331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4191120"/>
            <a:ext cx="60984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93760" y="3962520"/>
            <a:ext cx="406440" cy="685800"/>
          </a:xfrm>
          <a:custGeom>
            <a:avLst/>
            <a:gdLst/>
            <a:ahLst/>
            <a:rect l="l" t="t" r="r" b="b"/>
            <a:pathLst>
              <a:path w="256" h="432">
                <a:moveTo>
                  <a:pt x="256" y="0"/>
                </a:moveTo>
                <a:cubicBezTo>
                  <a:pt x="144" y="36"/>
                  <a:pt x="32" y="72"/>
                  <a:pt x="16" y="144"/>
                </a:cubicBezTo>
                <a:cubicBezTo>
                  <a:pt x="0" y="216"/>
                  <a:pt x="136" y="384"/>
                  <a:pt x="160" y="432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124080"/>
            <a:ext cx="1917720" cy="266760"/>
          </a:xfrm>
          <a:custGeom>
            <a:avLst/>
            <a:gdLst/>
            <a:ahLst/>
            <a:rect l="l" t="t" r="r" b="b"/>
            <a:pathLst>
              <a:path w="1208" h="168">
                <a:moveTo>
                  <a:pt x="0" y="144"/>
                </a:moveTo>
                <a:cubicBezTo>
                  <a:pt x="172" y="72"/>
                  <a:pt x="344" y="0"/>
                  <a:pt x="528" y="0"/>
                </a:cubicBezTo>
                <a:cubicBezTo>
                  <a:pt x="712" y="0"/>
                  <a:pt x="1000" y="120"/>
                  <a:pt x="1104" y="144"/>
                </a:cubicBezTo>
                <a:cubicBezTo>
                  <a:pt x="1208" y="168"/>
                  <a:pt x="1180" y="156"/>
                  <a:pt x="1152" y="144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886200"/>
            <a:ext cx="927000" cy="762120"/>
          </a:xfrm>
          <a:custGeom>
            <a:avLst/>
            <a:gdLst/>
            <a:ahLst/>
            <a:rect l="l" t="t" r="r" b="b"/>
            <a:pathLst>
              <a:path w="584" h="480">
                <a:moveTo>
                  <a:pt x="0" y="0"/>
                </a:moveTo>
                <a:cubicBezTo>
                  <a:pt x="236" y="8"/>
                  <a:pt x="472" y="16"/>
                  <a:pt x="528" y="96"/>
                </a:cubicBezTo>
                <a:cubicBezTo>
                  <a:pt x="584" y="176"/>
                  <a:pt x="460" y="328"/>
                  <a:pt x="336" y="48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638680"/>
            <a:ext cx="1600200" cy="393840"/>
          </a:xfrm>
          <a:custGeom>
            <a:avLst/>
            <a:gdLst/>
            <a:ahLst/>
            <a:rect l="l" t="t" r="r" b="b"/>
            <a:pathLst>
              <a:path w="1008" h="248">
                <a:moveTo>
                  <a:pt x="0" y="48"/>
                </a:moveTo>
                <a:cubicBezTo>
                  <a:pt x="156" y="148"/>
                  <a:pt x="312" y="248"/>
                  <a:pt x="480" y="240"/>
                </a:cubicBezTo>
                <a:cubicBezTo>
                  <a:pt x="648" y="232"/>
                  <a:pt x="920" y="40"/>
                  <a:pt x="1008" y="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</a:t>
            </a: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la struttura organizzativa….</a:t>
            </a:r>
            <a:br>
              <a:rPr sz="2400"/>
            </a:b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                                           </a:t>
            </a: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chi siamo?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2819520"/>
            <a:ext cx="3352680" cy="114300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3124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Gruppo regiona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133720"/>
            <a:ext cx="1828800" cy="91440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019920" y="4343400"/>
            <a:ext cx="1828800" cy="114300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3886200"/>
            <a:ext cx="1752480" cy="106668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057400"/>
            <a:ext cx="1905120" cy="990720"/>
          </a:xfrm>
          <a:prstGeom prst="ellipse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2096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   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038480"/>
            <a:ext cx="1447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133720"/>
            <a:ext cx="1600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U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4956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Gruppo provincialeP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4479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1371600"/>
            <a:ext cx="609480" cy="38088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4479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9051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7339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57200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952880"/>
            <a:ext cx="609480" cy="381240"/>
          </a:xfrm>
          <a:prstGeom prst="ellipse">
            <a:avLst/>
          </a:prstGeom>
          <a:solidFill>
            <a:srgbClr val="66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181480"/>
            <a:ext cx="609480" cy="38124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752480"/>
            <a:ext cx="609840" cy="38124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676520"/>
            <a:ext cx="685800" cy="38088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286000"/>
            <a:ext cx="609480" cy="3808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1981080"/>
            <a:ext cx="609840" cy="38124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1295280"/>
            <a:ext cx="609480" cy="38124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16765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2209680"/>
            <a:ext cx="609480" cy="381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1828800"/>
            <a:ext cx="609840" cy="3808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600200"/>
            <a:ext cx="60984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124080"/>
            <a:ext cx="609480" cy="38124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2819520"/>
            <a:ext cx="60948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1371600"/>
            <a:ext cx="609840" cy="3808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2438280"/>
            <a:ext cx="609840" cy="38124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4343400"/>
            <a:ext cx="609840" cy="38088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5867280"/>
            <a:ext cx="609840" cy="381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410080"/>
            <a:ext cx="609480" cy="381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876920"/>
            <a:ext cx="609840" cy="38088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038480"/>
            <a:ext cx="609480" cy="38124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53280" y="3124080"/>
            <a:ext cx="609840" cy="38124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5486400"/>
            <a:ext cx="609480" cy="45720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5638680"/>
            <a:ext cx="609480" cy="38124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819520"/>
            <a:ext cx="457200" cy="304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743200" y="3809520"/>
            <a:ext cx="380880" cy="3812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962520"/>
            <a:ext cx="990720" cy="6094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4495680"/>
            <a:ext cx="3124080" cy="2286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010280" y="3048120"/>
            <a:ext cx="0" cy="12189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057400" y="2971800"/>
            <a:ext cx="76320" cy="914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66880" y="2438280"/>
            <a:ext cx="3353040" cy="763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866920" y="2819520"/>
            <a:ext cx="304920" cy="304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5791320"/>
            <a:ext cx="14475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5791320"/>
            <a:ext cx="12189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867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Collaborazioni estern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Univ.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8672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SW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2209680" cy="838440"/>
          </a:xfrm>
          <a:custGeom>
            <a:avLst/>
            <a:gdLst>
              <a:gd name="textAreaLeft" fmla="*/ 0 w 2209680"/>
              <a:gd name="textAreaRight" fmla="*/ 2210040 w 220968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800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PATTUIZI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25909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66"/>
                </a:solidFill>
                <a:uFillTx/>
                <a:latin typeface="Times New Roman"/>
              </a:rPr>
              <a:t>referente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24382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66"/>
                </a:solidFill>
                <a:uFillTx/>
                <a:latin typeface="Times New Roman"/>
              </a:rPr>
              <a:t>referente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4572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66"/>
                </a:solidFill>
                <a:uFillTx/>
                <a:latin typeface="Times New Roman"/>
              </a:rPr>
              <a:t>referente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4876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66"/>
                </a:solidFill>
                <a:uFillTx/>
                <a:latin typeface="Times New Roman"/>
              </a:rPr>
              <a:t>referente provinc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2133720"/>
            <a:ext cx="685800" cy="457200"/>
          </a:xfrm>
          <a:prstGeom prst="ellipse">
            <a:avLst/>
          </a:prstGeom>
          <a:solidFill>
            <a:srgbClr val="cc00cc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362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362320"/>
            <a:ext cx="4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981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523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1523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up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502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S.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3809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648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5943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5715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86600" y="5562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2209680"/>
            <a:ext cx="457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905120"/>
            <a:ext cx="4572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D.D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1447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1752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1371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1981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66"/>
                </a:solidFill>
                <a:latin typeface="Times New Roman"/>
              </a:rPr>
              <a:t>I.C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focus group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3352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33526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3276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133720"/>
            <a:ext cx="5867640" cy="1066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0292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23623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66"/>
                </a:solidFill>
                <a:latin typeface="Arial"/>
              </a:rPr>
              <a:t>i  diversi punti di vis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371600"/>
            <a:ext cx="1371600" cy="76212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295280"/>
            <a:ext cx="16002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1143000"/>
            <a:ext cx="1600200" cy="8380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143000"/>
            <a:ext cx="1447920" cy="76212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523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alunn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971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600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3623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genitor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20574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1295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docent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imes New Roman"/>
              </a:rPr>
              <a:t>dirigente scolastic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057400"/>
            <a:ext cx="53316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1981080"/>
            <a:ext cx="15264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876560" y="1905120"/>
            <a:ext cx="7596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400440" y="2057400"/>
            <a:ext cx="22860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199040"/>
            <a:ext cx="8915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91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352680"/>
            <a:ext cx="7391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costruzione di un questionario per un’indagine qualitativa su: significati della valutazione, esperienze, comunicazioni delle modalità e degli esiti della valutazione, correzioni, valutazione del servizio, comunicazione e valutazione del P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validazione in 2 classi elementari, 2 classi medie  e 2 classi superiori, nelle quattro provi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47200" y="609120"/>
            <a:ext cx="8596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le scuole aderent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Provincia di PORDENONE         Provincia di GORIZIA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0" y="4724280"/>
          <a:ext cx="3581280" cy="1193760"/>
        </p:xfrm>
        <a:graphic>
          <a:graphicData uri="http://schemas.openxmlformats.org/drawingml/2006/table">
            <a:tbl>
              <a:tblPr/>
              <a:tblGrid>
                <a:gridCol w="1522440"/>
                <a:gridCol w="984240"/>
                <a:gridCol w="10746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OL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RANDACCI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.M. LOCCH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A BRIGNOL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66680" y="3505320"/>
          <a:ext cx="3048120" cy="24890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FIUME VENET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PRAT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SIA BRUGNER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SACIL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SIS MARCHESIN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S.VITO AL TAGLIAMENT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. LEOPARDI MAJORAN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7200" y="609120"/>
            <a:ext cx="8596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le scuole aderenti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Provincia di TRIESTE          Provincia di UDINE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3200400"/>
          <a:ext cx="3581280" cy="2273400"/>
        </p:xfrm>
        <a:graphic>
          <a:graphicData uri="http://schemas.openxmlformats.org/drawingml/2006/table">
            <a:tbl>
              <a:tblPr/>
              <a:tblGrid>
                <a:gridCol w="990720"/>
                <a:gridCol w="1447560"/>
                <a:gridCol w="1143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I VOLT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S.GIOVANN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AS DELED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OL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C CARL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2° CIRCOL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COMMERCIAL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M CARDUCC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343400" y="2133720"/>
          <a:ext cx="4038480" cy="3357360"/>
        </p:xfrm>
        <a:graphic>
          <a:graphicData uri="http://schemas.openxmlformats.org/drawingml/2006/table">
            <a:tbl>
              <a:tblPr/>
              <a:tblGrid>
                <a:gridCol w="1295280"/>
                <a:gridCol w="1397160"/>
                <a:gridCol w="1346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ULAR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COMEGLIAN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LAZZOL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REMARIACC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MOGGI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TRICESIM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SCAR STRINGH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4° CIRCOL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GNACC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.S. MARINELLI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47200" y="609120"/>
            <a:ext cx="8596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ahoma"/>
              </a:rPr>
              <a:t>Progetto PRO.VA.RE: nel Friuli Venezia Giulia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85800" y="1143000"/>
          <a:ext cx="7543800" cy="561492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1143000"/>
                <a:gridCol w="198108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OLO - G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RANDACCIO - G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A BRIGNOLI - G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S.GIOVANNI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SIA BRUGNERA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OLO 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SIS MARCHESINI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FIUME VENETO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COMMERCIALE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. LEOPARDI MAJORANA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PRATA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ULAR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PSCAR STRINGHER-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SACILE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COMEGLIANS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.S. MARINELLI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S.VITO AL TAGLIAMENTO - 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LAZZOL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I VOLTA -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MOGGI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REMARIACC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AS DELEDDA 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4° CIRCOL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TRICESIM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TC CARLI -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.D. 2° CIRCOLO 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C. PAGNACCO - U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.M. LOCCHI - GO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.M CARDUCCI- TS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c00cc"/>
                    </a:solidFill>
                  </a:tcPr>
                </a:tc>
              </a:tr>
            </a:tbl>
          </a:graphicData>
        </a:graphic>
      </p:graphicFrame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8:34:31Z</dcterms:created>
  <dc:creator>Un utente soddisfatto di Microsoft Office</dc:creator>
  <dc:description/>
  <dc:language>en-US</dc:language>
  <cp:lastModifiedBy>ZOCCHI</cp:lastModifiedBy>
  <dcterms:modified xsi:type="dcterms:W3CDTF">2003-05-30T14:09:13Z</dcterms:modified>
  <cp:revision>55</cp:revision>
  <dc:subject/>
  <dc:title>Miur Uffico Scolastico Regionale - Direzione Generale - Friuli Venezia Giulia  Progetto  </dc:title>
</cp:coreProperties>
</file>